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E91-6430-4142-AC11-544FA995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274-E0FC-4FB5-AD4E-36FAEBE4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80AB9-5C2E-4FF2-8433-E1B332B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99F7C-B848-4AEA-BF33-54F7A0E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C2B2-FCE6-4DF1-BFEA-BC0780F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7A717-B28D-4202-B3EB-CC441E3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270F1-C3D2-4390-A22F-9B457D1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D4A4A-7EC5-4A6F-AB33-B08759C3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5C6EA-5DD9-4493-997D-15DF494D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78B01-2E3B-41BA-BE8D-F78B315E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FC526-F9B6-4864-9ACA-E43F6780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DBC82-599F-4AE9-A8B2-D5B149B9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B20-E6EF-4309-AA27-8CA6D255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E8BE4-EA1E-4149-8A5B-A86E0EF8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0AB52-8398-4A57-B798-DC9B356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72893-3489-4178-9FBE-72007D45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F5D82-CFC4-4B76-A0B7-CED6DA4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830C-D3E8-44A3-819C-B15BEF3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8ABE5-B859-493B-9B12-119F0F5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CBF4C-DBAE-49FA-8EF4-CBA07F6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D5E1F-B06E-49CB-8838-FEC98722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2C4FE-DEAC-4A62-B9DA-CB46B9C7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9BACF-2E45-4D3F-A41E-4EE6B060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322-EBA7-47BD-99EB-1A3C2CEB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9F664-6627-43C0-8D5A-8374811F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F1D41-DA79-4230-A2A4-931B2D0D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37989-2A53-443E-97BF-C7D027F6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BFD5-EAFD-4C33-BEAD-6EFA9C4E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9F678-902B-48C6-907C-15F3D39B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6C0D-8D3D-4956-98C7-396B4BD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F424-55BC-43B4-9B68-1C347014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7545-00FF-476E-9F4B-E71E0BF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CF93E-019D-4B78-93FA-C65A8B5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80956-FBF5-42B0-B113-8FB140D5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0C8F-7A44-4F53-B787-89576379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E3344-BAEC-4455-ACF1-B1844A3C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EC74D-85DF-4C3F-BD01-CFEC4DD1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853AF-F937-4194-86B6-4C740C81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3A1B6-7A52-4F40-9AF7-28267C1E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9CD8F-1003-4886-B880-E0DC17BA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9FAFA-EA84-4672-8FF4-2436B39F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0BA69-1EA7-4643-A580-DFA32A2E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96ECB-577C-4331-85CB-4BB6988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A8115-1BA0-451B-BECA-1D9A416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98C8F-0267-4CE5-8B27-D141557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DD4B-1DDF-4979-8753-2E8AC7D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3CDE-C7D3-4341-8F67-63CDAA1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6E79B-968C-4B1A-883A-5721F89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4CD71-3628-4B6C-A590-B5633B52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C76B3-AB5D-434B-BA98-AB52C29D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083F3-D910-463E-9AB4-F0BD6C2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7BF51-56EB-4DD8-A252-431CF96B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70075-859A-468B-8D1A-FF15A18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2313A-99DC-4377-9A0C-9FC0154E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75490-3541-49A5-A853-3130CE32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43E39-D092-4A78-BD70-AC723A87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DDE-60F0-410B-8777-86928B1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1FFE0-71F8-4F72-8D68-8ED226AF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B6EA2-8D43-45AC-B755-A2E6EEA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B3BC8-CFA7-4162-8528-2062909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E97EE-0777-40E4-93E7-2490BD4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E1DFC-88A9-4617-9F83-B03A5F24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FA8F0-EBE7-4C78-8067-6EEACA3A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8B6D6-4909-4D22-8620-E7E25762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81B38-9BC2-4850-B851-0901C2FD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96306-057F-451F-A89A-B87E154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EEFF6-E10A-482E-85CF-1724DC7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F84-0DDE-4959-B055-C30985F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A395F-E268-48C2-AC78-CFCBFD89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E0664-3BAD-4BCD-BC86-1A0EE38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456AB-71BE-4A75-853B-1BE9A3FE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C4CB4-73E2-486D-975A-492EE9B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4AA33-5D3E-4AEA-AEF5-35CE1DB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81CAD-11FF-4A28-A6E4-D465CD83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B0F19-5D35-4601-8E27-165BBF4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7A246-A288-49E5-ABDB-9B02C737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A5843-871E-4C2A-BC16-E9C85D90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B1EFC-CDA9-4E22-83C8-40E4639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A19-A572-4EAC-9C7C-273D9C8D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62122-5F97-47A6-B2C8-C0AD3026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55F7C-C651-442D-A347-F4993C94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2476C-309C-42FE-8FA8-CEE410DD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BE923-09D6-4BC8-B106-D0765228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CC0B0-BCA3-4EEF-AB46-EBEDF546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ABE5D-1ECC-4D80-9601-4A4ED4D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AD02A-A2A3-4635-B3FF-FAAD2B6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F9211-0D04-4E49-B154-958722DE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1EEEA-75F1-4B15-B117-DBBF105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7C8F5-1D65-43C0-A019-7B37264B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B3ED-4784-4801-AB19-65C1819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83B34-0AD4-4986-BB69-42F294A2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FD6F0-4F53-4A0F-9972-368F1BFD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F39C3-81D1-4C98-BFFF-93DA42D7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16CF4-8735-4ACB-A336-F3686D2C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2A1C2-0121-45ED-B417-46DADF4C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82B3E-A908-4833-91DE-528352D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47E33-3637-4C72-B730-B4C2A508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00EDC-AB60-4411-B7D9-9094FEBC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10052-DCE8-462C-80FF-C9C3D57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40BCF-4997-4CCD-B04D-8B693AF6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688D-66B1-4F8B-BD9C-2750663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8CFFB-5BD8-481C-8C97-14BB006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97823-8BFB-44B3-BC0D-B475E7CD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9B731-76AC-4755-AF4E-34E943A1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DD289-09AA-463F-90BF-CC929F48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597D2-17DE-475B-BDAE-D4B5C1A3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CBAD8-410E-4C9A-A13B-051EF9B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F15F8-3BFF-4870-80F8-9D75605F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12AB4-599D-462D-B8E3-98AB9DF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16855-35FB-4D01-A04A-814784B1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547B4-3BDB-4FAE-99CD-2CC788B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8E7-F063-47C9-AEC3-4112A909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D31D-A260-41D6-8A2A-4CEA83B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E87E8-8492-4BDE-9326-0ACD2CB4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6EA7F-D5E1-4F7B-8034-C7DEBFF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D2F83-6938-4491-8ECE-236E5F69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30A35-419F-49B3-B04E-6782FABE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18B52-C254-46FA-A131-6BC795F8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66736-98D6-48FA-BAB0-BDC29CC2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D425E4-9FB7-48B1-9D58-EC42168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83056-898F-438E-A516-B1BAC63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9AC92-8423-4AF1-90F0-5DA7EAE7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8F72E-91D2-46C3-B0CB-E57488A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0F8-D856-47EE-ADCB-43FAC106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9ED83-7AA2-483F-B0D8-3112BF88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136F3-2EAF-4DB9-A6E7-A9AF50C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1A1EC-BB07-4C87-860C-0A4E23A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D5E71B-8541-4BF0-A1FB-B8CC7BE8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F1548-44B3-48C9-B00E-DDE98229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CB9C4-8D23-49A9-98B0-8FC6835C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AFE50-B986-45D2-892F-94AA19F4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EE214-3BCF-4DF1-9779-D049248F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9459E-2E49-45F6-B700-E7548DB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F7D74-F3C1-4CB2-B955-251025B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854-C2F5-4145-B09B-99CD9BE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C65D2-2C17-4064-83C5-3F42989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06BBB-CA4F-4F2B-B636-1EB43945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FDDAB-7827-4768-A109-C2F7F06D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23F2D-2D5B-44CA-ABA7-3D9D7E4D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0E714-70EE-4AFE-8DC1-7A6F72A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A3629-D9F8-4E43-BA68-DABE9F89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A96BD-0C7A-4323-8CB3-5933386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BC859-33A7-4843-A4BA-5096CEB4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3BAF2-6BD3-4681-86B9-98D7E338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9C5A6-273F-457B-B3DE-D2DFF382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B7E-C1DF-4AC4-865D-0D057143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DBCC7-9864-415D-8EFC-F8BECB06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BEBA1A-A8B7-40EA-95BC-3B537AE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E180F-0DB3-4EDD-A54E-722E28D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5668C-4A8B-432C-AD81-C1B233F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D3C94-1C99-40D7-90DA-6091DB3D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42023-8952-4C89-9E95-091406D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4387A-EDEC-4C7B-B5ED-4A69170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08C8B-2385-49B3-88D4-18F978CE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FC1D1-9909-467A-92D5-2A44B8EF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76B4C-37EA-48CA-B90B-E66B5C21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0958-C903-4411-9F64-0DF39C50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23DD3-9235-4E33-98E6-A3ECA6D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34A66-9EDB-478A-B74B-31D5F358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03994-6DD6-4075-9C84-9DD8ACF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10939-3E2B-4278-B17F-B274966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09A4C-9011-4F58-BC34-D10FB08B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7E03E-F26B-484D-B4B2-18B72BE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83481-F4CE-4333-AD9B-7A6869CE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DB5797-75E4-4C61-8677-2572283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E36C5-DE93-44ED-8F53-EFAA651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D45F4-D21B-48B0-A189-B06959B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97CA-455F-4AC2-BE3E-425E2810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A07090-F2A3-4AA5-8F49-1486E333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C8859-7F83-4BAC-AC01-845F8CA4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B20DD-F2CF-461E-9000-FF7A3E9C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CBD6-A8E0-48CF-8D2C-1F21B94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D7D9-BDBC-4B08-B668-AD597509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2B72-A385-41F4-98B3-51E14E21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F130-B199-4CA3-9D78-3B63D61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1A5-18A3-40EA-B8B7-AFF98AC8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F764-D7E5-432F-A722-D0B2941C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FC0A-4918-41FC-A08E-CE38C0D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CA1F-F85B-4B93-90EE-1871BA7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07B6-CA9E-440E-AF52-001623EF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5EC3-0776-4AD1-9140-1609CBE4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1EEA-5988-4638-8E43-85173E79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46C1-94C0-4E36-A71D-97643DD2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7EA7-462D-42CA-8105-4E6FDB9E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A942-C051-438B-93E8-A1D6909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A411-9612-4EC5-8BAE-922F7661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D25-58B7-4849-9384-92F1F10A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B532-A615-48B2-AD3E-9E3AE22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4260-26C8-482B-8FAB-55BD035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23CD-B26F-4541-BD70-A7F6210F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23B4-ED91-4DCB-BFA0-23FB0D8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1C3C-99BB-4650-9834-967FD71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8ACE1-CF2F-4519-BD16-8042634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FBCA-9AFF-4FFA-A715-959AF19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02F8-48D9-4710-966E-241A4423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DE19-35C9-410B-AA14-6D91CE8D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38CE-D893-4710-84E7-D572C3A3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4C8-BBDA-4AB6-8C8E-7846E6D8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D808-9401-4A93-ABF8-277A06D0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684A-346C-441E-BA6E-E8636884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CACC-155D-47D7-BE9E-122A025D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D634-E7A5-4A13-8E72-CC10113C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C8A4-BA1A-4D33-9FF2-7781BBDF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5208-67AD-4A80-B9C6-CE19047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D5AF9-A198-49F9-B3AD-10E7FF35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07E5-E303-4C89-A5A2-944C159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003C-BDB5-4271-8F74-CC06FB2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979E-3B38-47F4-80B7-B26B41F9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333-AE0E-45AB-998F-2B872EA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9FE5-DDE0-4839-A3BC-2614D5CD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A854-D235-4E9A-A224-1FEFDBC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044C-8505-4406-B0FE-522DD1CB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83919-4233-4A2F-A962-D965987D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1346-FF15-40AA-9857-7839A445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BBDE-BF55-4BFC-B705-C4A1EA7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59BA-FA33-4633-B53B-D8A42B96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AF94-4779-42F5-994D-1205611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0E65-F3AF-4587-8FC7-630DBA96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08E0C-C27F-44F6-8C35-F455C52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96E-7722-44B3-9160-879F38A7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EB82C-9CE1-47A2-9469-B1D6B712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D2FCB-2B13-47B3-802D-2AA52778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7807-7575-4175-A1F5-EEE1E990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CA9BB-76DD-473B-AD57-BA9502B7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00F8-943F-4785-BAEF-CBE4CC11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8FD0E-10F9-4FA0-80A0-62D7F2E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845CD-5071-422A-BFFC-760A20A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5A137-357C-4016-B0AD-ADBA68E2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027A-5A2E-4504-9AE2-C196846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70FC-2874-4590-AC5C-417CA38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E46-829F-42C0-B111-B4EB53B4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F045-BF2E-4292-B784-ED1077C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C8D0-F594-4DF0-A9E0-DB78D59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B149-DF91-42B9-8733-86A6104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F4E45-440B-481E-86B7-3A0B9891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5A52-AD88-4021-9A1B-82E0F601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5118-2C76-4DA8-BE52-A623A57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881B-620B-4A0E-85FD-AF6E1DB1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E9025-266A-4B8D-9BAB-9DC02F76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67A5A-2B6F-4A3F-9F68-0405A80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2E5BC-22B1-4001-AFE6-544CDC4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EDD-E9EB-45FD-A9AE-51E0F077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B2E1A-C2A9-4A74-901D-CC64BE4B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7615-F074-466F-92A4-0BF3146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D0FF4-7374-44BE-9B36-98968F2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702E-4126-4B9E-AF66-FAC1FAB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0C8C-3F40-4232-BDF9-B7BB65A0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36D70-4596-4A45-A234-B8972F14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A355-1485-48DF-8903-D431C175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73D5-D5A5-4F11-84FC-9F29B61A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D18BE-CB34-4469-A32E-43C37F28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9FA25-97E4-4403-B230-4970B88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FD5-9C34-4E04-9223-D5C47B533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029-B20B-4DB5-ADB0-6DE77DA1D0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D05-B5EE-4A78-ADEF-164F641EE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715-48B7-40FB-AB56-8591C421BF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1A28-80D8-49EB-AEF3-E0341D76B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4A53-534A-4A0E-9F18-0CDA3CC68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19E-684B-407C-A9B9-CDF15FCCD7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CD9-A0F0-4CC9-93B1-AC9A26737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508-FE58-42A0-A461-D927DD4F4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40C-DFBF-4498-83BB-3D4A1EE49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B69-7B22-495B-B90D-8F48AAC65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E0A2-9F58-46F7-A2C0-C5476FFCE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C7FC-6EDD-4116-B577-8557F5F59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D9C-48D0-4B9F-8101-6C83BA534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1BE-13F4-41AE-B550-4FECBD44B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108-27D8-4203-A0E5-3030A6C1C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18D5-B059-46F8-A02F-F49728D52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A7AF-5B5D-415B-83F2-0A7D193247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012-9AAA-4859-8927-AB64BCBB3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9B49-5BE0-420F-B210-8E41498FA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6C96-42E2-4EC0-BD72-9BC652DABA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B6C-A395-408E-9B39-0EE7C0B8B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A1FC-749F-4A39-941F-189207387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26D-AE58-4521-AC54-99848DF43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822-3643-4471-97D0-F568F78C5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D80C-9301-4EEF-9F5A-A17A33C459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7A56-0183-4C90-9FE5-7D1F510F3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FF81-9F52-4237-B830-4D0B545F2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C822-F5CE-4350-88AC-233287DC7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D451-E5E5-447D-856C-6BE94FE05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8C9-9963-480F-9C70-4477593B6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834-8EB6-46F1-94E6-5A07B4804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38DD-B97C-4A21-948C-573F3B4D6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3B0D-878D-40FD-97B5-E6A7B9317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E9E-E206-47DF-843F-AD749756C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0A1-6EAC-4554-8281-6AAC4CFCF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EA97-0CFE-479E-8569-FAFF2DFD8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93F3-696A-44C4-A3D1-C5AD13001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D919-CDEF-4CD8-9FB6-D7B77A794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D93-4A3A-4C26-B57A-19AFF04D2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548080" y="3009960"/>
            <a:ext cx="4047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09600" y="1486080"/>
            <a:ext cx="8523360" cy="3886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504800" y="2924280"/>
            <a:ext cx="505080" cy="306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648000" cy="3063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651640" y="2924280"/>
            <a:ext cx="647640" cy="306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7956720" y="2924280"/>
            <a:ext cx="647640" cy="306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619280" y="3284640"/>
            <a:ext cx="647640" cy="291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3564000" y="3298680"/>
            <a:ext cx="647640" cy="292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5665680" y="3298680"/>
            <a:ext cx="647640" cy="292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85080" y="3298680"/>
            <a:ext cx="647640" cy="292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619280" y="3659040"/>
            <a:ext cx="647640" cy="292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3492360" y="3659040"/>
            <a:ext cx="648000" cy="29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5724360" y="3645000"/>
            <a:ext cx="648000" cy="291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1000080" y="4869000"/>
            <a:ext cx="360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76200" y="1657440"/>
            <a:ext cx="8389800" cy="3543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11600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11600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116000" y="3745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1116000" y="4135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1116000" y="449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1116000" y="48546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37960" y="1185840"/>
            <a:ext cx="8668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0:2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